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62A-53DB-442A-ABF1-A7DC3F63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0B5-D2CD-43AB-8611-0D5D25CE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4B7-9ECF-47FC-8F36-3E0F47E8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EF4-D363-4BBE-966C-B58BB9AC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32D-09F6-4112-AE8E-F50A1EA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498-56E0-498F-B751-24FF492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312-90AA-44CA-9A0B-83DE89F0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B65-D559-4736-BF30-E05878C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085-AED7-4BE2-A6F2-996B606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B03-092F-41AD-B03C-CFFD8DB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57D-7483-42D5-AC2E-A7E86CF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400-FF96-44CC-A98A-31ACA57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8432-FE37-4B65-80FC-318B09A1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773360"/>
            <a:ext cx="511344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FETTE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5084640"/>
            <a:ext cx="4937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urier New"/>
              </a:rPr>
              <a:t>von Julika &amp; Jenna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as ist Fett &amp; wie ist es aufgeba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organ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ölige, schmierige, wachsartige Substa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riglyce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8 bis 24 Kohlenstoffat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einer Zu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sch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e 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ruch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uppe organischer 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stehen bei der Hydrolyse von F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. B. Methan- u. Ameise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den als Rohstoffe ein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ari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ättigte und Ungesättigte Fett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igen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chmelz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ös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auch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Chemische Kenn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eifungs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od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äure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e in der Ernä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htbar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teckt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tt als Geschmackstr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2:12Z</dcterms:created>
  <dc:creator>template</dc:creator>
  <dc:description/>
  <dc:language>en-US</dc:language>
  <cp:lastModifiedBy>BBS Winsen</cp:lastModifiedBy>
  <dcterms:modified xsi:type="dcterms:W3CDTF">2006-09-28T08:32:05Z</dcterms:modified>
  <cp:revision>3</cp:revision>
  <dc:subject/>
  <dc:title>Folie 1</dc:title>
</cp:coreProperties>
</file>